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0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A30-9826-4582-8937-751BB996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377-274C-4A9A-A548-7C92C24B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A8D-C68F-408E-86E5-ADDC9146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ACA-01E0-40CE-B093-0D82ADA7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CC64-2C9C-4822-8902-3FF70789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EE0E-A288-4E53-B348-FD2B6B59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6241-0F74-4781-A4DB-BFED767F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FC34-1A2D-4C01-8BF1-81558D8F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BF99-B776-4E5E-8AC5-23005125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073B-9202-4E54-A587-0A0E2AA3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1380-861A-4864-86A3-FA07BAFE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456-A396-4C3A-9C8A-B5C5A140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FA2E-F5B7-4E1B-B23F-1F0BEA30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9068-8D23-4E6C-AF83-B1D6E9F7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CDEA-16EC-44E1-94D8-44973242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627B-7FE1-44C9-A6E0-E0313D4C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C068-76A1-4763-B51B-3A642C05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4B5-095F-495D-B41E-D3EA0CA8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0D8-53F6-4D91-80DC-0C6FC549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1CD-48DD-49B9-A699-3519E0E6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42C-E0AA-4158-A63B-AD3A9422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ACC-506B-4F25-B5EA-5876960E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549-E618-4297-89BB-230A6247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C7A-3F25-46C5-BB27-C0D68AE0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C9C1-183A-4B79-A541-C2B37FEDC9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596D-890E-4523-868B-FC8AEFFA93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0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0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0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1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bra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eriod and Frequenc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eriod, T, is the time that it takes for the object to complete one complete cycle of mo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x = A to x = - A and back to x =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requency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ƒ, is the number of complete cycles or vibrations per unit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ƒ = 1 / 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cy is the reciprocal of the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cceleration of an Object in Simple Harmonic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ton’s second law will relate force and accel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is given by Hooke’s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 = - k x = m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= -kx /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cceleration is a function of po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leration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stant and therefore the uniformly accelerated motion equation cannot be appl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Potenti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ompressed spring has potential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mpressed spring, when allowed to expand, can apply a force to an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tential energy of the spring can be transformed into kinetic energy of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Potential Energ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stored in a stretched or compressed spring or other elastic material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lastic potential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½k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is stored only when the spring is stretched or compre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astic potential energy can be added to the statements of Conservation of Energy and Work-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in a Spring Mass Syste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810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block sliding on a frictionless system collides with a light sp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lock attaches to the sp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ystem oscillates in Simple Harmonic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22960" y="2017800"/>
            <a:ext cx="3452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Transform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lock is moving on a frictionless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mechanical energy of the system is the kinetic energy of the blo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54400" y="2017800"/>
            <a:ext cx="5427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Transformation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pring is partially compres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ergy is shared between kinetic energy and elastic potential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mechanical energy is the sum of the kinetic energy and the elastic potential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04880" y="2017800"/>
            <a:ext cx="6927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Transformation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ring is now fully compre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lock momentarily sto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otal mechanical energy is stored as elastic potential energy of the sp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71600" y="2017800"/>
            <a:ext cx="7394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Transformations, 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block leaves the spring, the total mechanical energy is in the kinetic energy of the blo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pring force is conservative and the total energy of the system remains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19240" y="2017800"/>
            <a:ext cx="6097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locity as a Function of Posi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of Energy allows a calculation of the velocity of the object at any position in its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is a maximum at x =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is zero at 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±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The ± indicates the object can be traveling in either dir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104920" y="3352680"/>
          <a:ext cx="3257640" cy="10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3352680"/>
                    <a:ext cx="325764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oke’s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- k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spring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 is the spring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 measure of the stiffness of the sp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arge k indicates a stiff spring and a small k indicates a soft sp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is the displacement of the object from its equilibrium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 = 0 at the equilibrium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gative sign indicates that the force is always directed opposite to the displac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Simple Harmonic Motion and Uniform Circular Motion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53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all is attached to the rim of a turntable of radius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cus is on the shadow that the ball casts on the scre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turntable rotates with a constant angular speed, the shadow moves in simple harmonic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940360" y="2017800"/>
            <a:ext cx="221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eriod and Frequency from Circular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gives the time required for an object of mass m attached to a spring of constant k to complete one cycle of its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ts are cycles/second or Hertz, 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819520" y="1752480"/>
                <a:ext cx="17524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657600" y="4343400"/>
                <a:ext cx="25909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ƒ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gular Frequenc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ngular frequency is related to the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gives the number of cycles per seco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gular frequenc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gives the number of radians per seco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57400" y="2971800"/>
                <a:ext cx="25909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ƒ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ffective Spring Mas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raph of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versus m does not pass through the orig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pring has mass and oscill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 cylindrical spring,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ffectiv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dditional mass of a light spring is 1/3 the mass of the sp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as a Function of Tim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ference circ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llows a description of the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= A cos (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ƒ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x is the position at time 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x varies between +A and -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46560" y="2017800"/>
            <a:ext cx="38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phical Representation of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x is a maximum or minimum, velocity i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x is zero, the velocity is a maxim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x is a maximum in the positive direction, a is a maximum in the negative 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477040" y="2017800"/>
            <a:ext cx="3144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ember, the uniformly accelerated motion equations cannot be u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= A cos (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ƒt) = A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 = -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ƒA sin (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ƒt) = -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s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= -4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ƒ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os (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ƒt)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-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rification of Sinusoidal Nat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4419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experiment shows the sinusoidal nature of simple harmonic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ring mass system oscillates in simple harmonic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ttached pen traces out the sinusoidal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49760" y="2017800"/>
            <a:ext cx="299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mple Pendul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imple pendulum is another example of simple harmonic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is the component of the weight tangent to the path of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- m g s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00560" y="2017800"/>
            <a:ext cx="369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mple Pendulum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, the motion of a pendulum is not simple harmon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ever, for small angles, it becomes simple harmon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general, angles &lt; 15° are small eno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θ = 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= - m g 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force obeys Hooke’s La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oke’s Law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orce always acts toward the equilibrium po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storing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rection of the restoring force is such that the object is being either pushed or pulled toward the equilibrium po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eriod of Simple Pendul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shows that the period is independent of the amplitu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eriod depends on the length of the pendulum and the acceleration of gravity at the location of the pendul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438280" y="1878120"/>
                <a:ext cx="19051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Simple Pendulum Compared to a Spring-Mass System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755800" y="1981080"/>
            <a:ext cx="41277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ysical Pendul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hysical pendulum can be made from an object of any sh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enter of mass oscillates along a circular ar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567400" y="2017800"/>
            <a:ext cx="296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eriod of a Physical Pendul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eriod of a physical pendulum is given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is the object’s moment of inert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 is the object’s m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imple pendulum, I = m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the equation becomes that of the simple pendulum as seen bef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81080" y="2895480"/>
          <a:ext cx="2438640" cy="11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95480"/>
                    <a:ext cx="243864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mped Oscill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ly ideal systems oscillate indefini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real systems, friction retards the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iction reduces the total energy of the system and the oscillation is said to b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amp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mped Oscillation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mped motion varies depending on the fluid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a low viscosity fluid, the vibrating motion is preserved, but the amplitude of vibration decreases in time and the motion ultimately c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is known a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underdamp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sci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145120" y="2286000"/>
            <a:ext cx="38098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Types of Damp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a higher viscosity, the object returns rapidly to equilibrium after it is released and does not oscil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ystem is said to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ritically damp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an even higher viscosity, the piston returns to equilibrium without passing through the equilibrium position, but the time required is lon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said to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ver damp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phs of Damped Oscilla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ot a shows an underdamped oscill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ot b shows a critically damped oscill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ot c shows an overdamped oscill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45120" y="2468520"/>
            <a:ext cx="38098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ve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wave is the motion of a disturb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chanical waves requ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source of disturb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edium that can be disturb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physical connection between or mechanism though which adjacent portions of the medium influence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waves carry energy and moment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Waves – Traveling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ip one end of a long rope that is under tension and fixed at one 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ulse travels to the right with a definite sp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isturbance of this type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raveling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468760" y="2017800"/>
            <a:ext cx="316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oke’s Law Applied to a Spring – Mass Syste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x is positive (to the right), F is negative (to the lef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x = 0 (at equilibrium), F is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x is negative (to the left), F is positive (to the righ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95760" y="2017800"/>
            <a:ext cx="310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Waves – Transvers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transverse wave, each element that is disturbed moves in a direction perpendicular to the wave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70160" y="4151160"/>
            <a:ext cx="5595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Waves – Longitud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longitudinal wave, the elements of the medium undergo displacements parallel to the motion of the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ongitudinal wave is also called a compression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371600" y="4648320"/>
            <a:ext cx="777240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ther Types of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ves may be a combination of transverse and longitudi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lit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onsists of a solitary wave front that propagates in iso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studied by John Scott Russell in 184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w used widely to model physical phenome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veform – A Picture of a Wav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rown curve is a “snapshot” of the wave at some instant in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lue curve is later in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igh points a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res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ow points a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rough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45120" y="2313000"/>
            <a:ext cx="38098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Longitudinal Wave Represented as a Sine Curve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ongitudinal wave can also be represented as a sine cu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essions correspond to crests and stretches correspond to troug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called density waves or pressure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895480" y="4029120"/>
            <a:ext cx="3598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scription of a Wav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teady stream of pulses on a very long string produces a continuous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lade oscillates in simple harmonic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small segment of the string, such as P, oscillates with simple harmonic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145120" y="277956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mplitude and Waveleng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plitude is the maximum displacement of string above the equilibrium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λ, is the distance between two successive points that behave identic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145120" y="2943360"/>
            <a:ext cx="3809880" cy="22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 of a Wav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 = ƒ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Is derived from the basic speed equation of distance/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This is a general equation that can be applied to many types of wa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 of a Wave on a St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peed on a wave stretched under some tension, 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called the linear den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peed depends only upon the properties of the medium through which the disturbance trav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905120" y="2971800"/>
          <a:ext cx="37335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971800"/>
                    <a:ext cx="37335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of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traveling waves can meet and pass through each other without being destroyed or even alt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s obey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uperposition Princi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wo or more traveling waves are moving through a medium, the resulting wave is found by adding together the displacements of the individual waves point by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ually only true for waves with small amplitu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of the Spring-Mass Syste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 the object is initially pulled to a distance A and released from 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the object moves toward the equilibrium position, F and a decrease, but v incre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x = 0, F and a are zero, but v is a maxim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’s momentum causes it to overshoot the equilibrium po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tructive Interfere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waves, a and b, have the same frequency and amplit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mbined wave, c, has the same frequency and a greater amplit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607000" y="2017800"/>
            <a:ext cx="2884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tructive Interference in a St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pulses are traveling in opposite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t displacement when they overlap is the sum of the displacements of the pul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that the pulses are unchanged after the inter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213000" y="2017800"/>
            <a:ext cx="3710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structive Interfere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waves, a and b, have the same amplitude and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180° out of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y combine, the waveforms canc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59480" y="2017800"/>
            <a:ext cx="2981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structive Interference in a St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pulses are traveling in opposite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t displacement when they overlap is decreased since the displacements of the pulses subtr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that the pulses are unchanged after the inter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24160" y="2017800"/>
            <a:ext cx="3689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flection of Waves –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ixed En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a traveling wave reaches a boundary, some or all of the wave is refl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it is reflected from a fixed end, the wave is inve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hape remains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070680" y="2017800"/>
            <a:ext cx="195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flected Wave – Free En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 traveling wave reaches a boundary, all or part of it is refl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reflected from a free end, the pulse is not inve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308320" y="2017800"/>
            <a:ext cx="551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 Revie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3,7,15,17,21,31,34,37,43,4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of the Spring-Mass System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orce and acceleration start to increase in the opposite direction and velocity decre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tion momentarily comes to a stop at x = -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then accelerates back toward the equilibrium po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tion continues indefini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mple Harmonic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tion that occurs when the net force along the direction of motion obeys Hooke’s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is proportional to the displacement and always directed toward the equilibrium po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tion of a spring mass system is an example of Simple Harmonic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mple Harmonic Motion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all periodic motion over the same path can be considered Simple Harmonic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be Simple Harmonic motion, the force needs to obey Hooke’s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mplitud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mplitude,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mplitude is the maximum position of the object relative to the equilibrium po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absence of friction, an object in simple harmonic motion will oscillate between the positions x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±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09:20Z</dcterms:created>
  <dc:creator>Marilyn Akins</dc:creator>
  <dc:description/>
  <dc:language>en-US</dc:language>
  <cp:lastModifiedBy>DCPS</cp:lastModifiedBy>
  <dcterms:modified xsi:type="dcterms:W3CDTF">2008-11-19T18:57:53Z</dcterms:modified>
  <cp:revision>11</cp:revision>
  <dc:subject/>
  <dc:title>Chapter 13</dc:title>
</cp:coreProperties>
</file>